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08A09-11E1-4036-B262-7F9B7EDE7E3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B87E-296D-447C-B702-B74242126BA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84449-A434-46FE-BFE3-430960481D7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25BE9F-B404-4646-A9E0-E5227E51F38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33AA3-BCAE-4EF5-B9B7-D54F72509B4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A9B2E-C99D-457A-95EF-42D3181E50A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17229-9BEE-4E84-B466-B404266965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F85CC-E503-4B58-B5BA-6FF4F0DA58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8D973-0280-479C-95D1-289B5C8D49B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0888C-7B7C-47E7-954F-306CE1ACD2D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E0F42A-71E7-444E-A149-B7EE5B5F7F1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04B80-3E79-4686-AC32-049C72D2619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1E482-1B29-4617-917D-4005A115F8F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7F043-4C2C-4F47-A2C0-1C0FB22EE36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9E2C-3696-46B0-A4B9-E20901DC627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45797-D055-4EDE-8D7F-D6D6DB96C4D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C76407-BDDC-45E6-97DD-6307ADF9D22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3583-F688-406C-A3DE-93DCE4AFA17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C0FB2-5976-4070-95DB-FFA4D4B32E0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B8D61-7E2D-43DC-B079-35640576BEB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44DA9-8169-47C3-9C82-6161354281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23168-27E6-4942-BA3B-EFC3B87D16D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12ABE-B842-4820-A409-B31940D8573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F094B-2208-4A3E-BE19-36DB2CC5EC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10758-490B-468F-AADC-828D7A398B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AD466-5BA9-4772-B1B2-413A5F651D3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76712-00B1-4A21-891D-152049D52DA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CAAE5-6C98-47BC-9BEB-2F25884B0A5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F3C1C-CC6E-42F9-96CF-462A6F10691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C2BB1-9D59-45E6-AEB5-77314615B18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5C9DE-85EA-44A8-BAB5-2B8A1607872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19A40-40BA-4AAA-891C-AB162625F0F0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6AD3-04D4-4D40-8577-70240143909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4D373-32B4-4FA6-88DB-F8B1C3071B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16B09-A3F5-4B9B-A19A-F2443BB392C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449A9-DABC-47E6-9C26-03E3CF79955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64F9F-39DD-4E3B-8BB8-C030B3884A0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6F602-D6B6-469C-B146-7A4D4A15BFA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577EA-CD3B-465F-A61A-B6ADFAA3FFE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31ED1-117C-49CD-8038-5168E928783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A293-1F8B-4535-815A-987097DE00F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AE127-8D98-4287-B8FC-BC22F108FA0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292B4-EB28-4830-A64E-E141711F527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83A17-A695-4C22-B85B-2112048295E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ACE64-4DC1-455F-9371-AC0096807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22ED-66EA-437A-A0F5-AE126B530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9D794-BD64-4803-8DFC-644F1D709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567FE-F1E4-48BA-A778-8C9390A1B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45D20-8F9A-4DC0-8B5F-D35742FF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B1153-5B97-47CE-821A-E160DF32A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21A98-EBB4-4F9E-89A9-60EDAF99C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3C84A-3D48-4718-A364-B3EA4D4D5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BE426-2FDB-4666-9249-1407A705D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42B85-6D32-4246-828F-166BEEBF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A0C6-3193-4473-AD89-F500BB55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158F7-5E73-4716-BAE2-2AB23BAF1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C355-6B38-42C9-8516-8AAEABAF0774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ΟΣΟΑΙΜΑΤΟΛΟΓΙΑ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ΚΑΙ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4" descr=""/>
          <p:cNvPicPr/>
          <p:nvPr/>
        </p:nvPicPr>
        <p:blipFill>
          <a:blip r:embed="rId1"/>
          <a:srcRect l="9864" t="11599" r="6182" b="8541"/>
          <a:stretch/>
        </p:blipFill>
        <p:spPr>
          <a:xfrm>
            <a:off x="1143000" y="127080"/>
            <a:ext cx="7143840" cy="663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Α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951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αντισώματα συνδέονται με τα αντιγόνα και προκαλούν την καταστροφή τους, με τους ακόλουθους μηχανισμού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νίσχυση της μη ειδικής ανοσία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Συγκόλλ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95160" indent="-609480">
              <a:spcBef>
                <a:spcPts val="799"/>
              </a:spcBef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ξουδετέρωση - αδρανοποίη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ΩΤ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ετά την 1</a:t>
            </a:r>
            <a:r>
              <a:rPr b="1" lang="el-GR" sz="3200" spc="-1" strike="noStrike" baseline="30000">
                <a:solidFill>
                  <a:srgbClr val="002060"/>
                </a:solidFill>
                <a:latin typeface="Arial"/>
              </a:rPr>
              <a:t>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έκθεση σε ένα αντιγόνο, η ανοσολογική απάντηση χρειάζεται μερικές εβδομάδες για να αναπτυχθεί. Αυτή ονομάζεται </a:t>
            </a:r>
            <a:r>
              <a:rPr b="1" lang="el-GR" sz="3200" spc="-1" strike="noStrike" u="sng">
                <a:solidFill>
                  <a:srgbClr val="002060"/>
                </a:solidFill>
                <a:uFillTx/>
                <a:latin typeface="Arial"/>
              </a:rPr>
              <a:t>πρωτογενής απάντηση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μφανίζεται σχετικά αργά. Τα αντισώματα αρχικά αυξάνουν και μετά πέφτουν σε χαμηλότερα επίπεδ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α παραγόμενα αντισώματα είναι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ΕΥΤΕΡΟΓΕΝΕΙΣ ΑΠΑΝΤΗΣΕΙ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196640"/>
            <a:ext cx="882000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ε κάθε επόμενη έκθεση σε αντιγόνα, η παραγωγή αντισωμάτων είναι ταχύτατη, γιατί υπάρχουν τα κύτταρα μνήμης που οδηγούν σε ταχεία αντίδραση. Αυτή είναι η </a:t>
            </a:r>
            <a:r>
              <a:rPr b="1" lang="el-GR" sz="3000" spc="-1" strike="noStrike" u="sng">
                <a:solidFill>
                  <a:srgbClr val="002060"/>
                </a:solidFill>
                <a:uFillTx/>
                <a:latin typeface="Arial"/>
              </a:rPr>
              <a:t>δευτερογενής απάντηση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της δευτερογενούς απάντησης είναι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ενισχυμένη αυτή απάντηση μπορεί να καταστρέψει έναν παθογόνο κύτταρο, πριν προκαλέσει συμπτώμα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ΕΣ ΑΝΟΣΟΛΟΓΙΚΗΣ ΑΠΑΝΤ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ανοσολογική απάντηση εξαρτάται από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δομή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ποσότητα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ν οδό εισόδου του αντιγόνου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η συχνότητα του αντιγόνου στον πληθυσμ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Σημαντικό ρόλο παίζουν τα Η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L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Α μόρια που βρίσκονται στην επιφάνεια όλων των 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ΙΔΗ ΑΝΤΙΣΩΜΑΤΩΝ ΣΤΗΝ 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6840" y="1600200"/>
            <a:ext cx="843588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Φυσικά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Υπάρχουν στον ορό χωρίς προηγούμενη έκθεση. Π.χ. τα αντισώματα του συστήματο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 ABO.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Είναι κυρίως 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IgM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cc3300"/>
                </a:solidFill>
                <a:latin typeface="Arial"/>
              </a:rPr>
              <a:t>Ανοσα αντισώματ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: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αράγονται μετά από έκθεση. Είναι κυρίως </a:t>
            </a:r>
            <a:r>
              <a:rPr b="1" lang="en-US" sz="3000" spc="-1" strike="noStrike">
                <a:solidFill>
                  <a:srgbClr val="cc3300"/>
                </a:solidFill>
                <a:latin typeface="Arial"/>
              </a:rPr>
              <a:t>Ig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Η ΜΕΜΒΡΑ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ερυθροκυτταρική μεμβράνη αποτελείται από μια διπλοστιβάδα λιπιδίων, με κύρια συστατικά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(α) τα λιπίδια και (β) πρωτεϊν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φωσφολιπίδια έχουν διάταξη διπλοστιβάδας με τα υδρόφοβα τμήματα προς τα μέσα και τα υδρόφιλα προς τα έξ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πρωτεϊνες είναι διαμεμβρανιακές ή στη μια πλευρά της μεμβράν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ΕΣ ΠΡΩΤΕΪ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179280" y="1844640"/>
            <a:ext cx="86407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πεκτρ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κτ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λυκοφο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4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05740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η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ΙΚΑ ΑΝΤΙΓΟΝ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τμήμα της διαμεμβρανιακής πρωτεϊνης που εξέχει από την μεμβράνη προσδίδει τις αντιγονικές ιδιότητ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ερυθρό αιμοσφαίριο, στο στάδιο της ερυθροβλάστης, έχει πολύ μεγάλο αριθμό αντιγόνων. Με την ωρίμανση, ο αριθμός μειώνεται, αλλά παραμένου αρκετά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τουλάχιστον 25 συστήματα αντιγόνων, που καθορίζουν τις ομάδε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ΜΑΔ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θορίζονται από συστήματα αντιγόνων, που επηρεάζουν τις αντιδράσεις μεταξύ των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αντιδράσεις μπορεί να είναι ακόμη και θανατηφόρ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Έχουν μεγάλη σημασία στις μεταγγίσει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ΟΣΟΑΙΜΑΤΟΛΟΓ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Το ανοσολογικό σύστημ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του δικού του οργανισμού και δεν αντιδρά (πλην παθολογικών καταστάσεων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αναγνωρίζει τα κύτταρα άλλων οργανισμών ως ξένα και αντιδρά σ΄ αυτά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: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Α ΣΤΑ ΕΡΥΘ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24000" y="1699920"/>
            <a:ext cx="849600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65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δύο αντιγόνα: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ι συνδυασμοί στην παρουσία τους δημιουργούν τέσσερις ομάδες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Κανέν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Ο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         (42,5%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Μόνο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Β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 και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μάδα Α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849636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ΒΟ: ΑΝΤΙΣΩΜΑΤΑ ΣΤΟ ΠΛΑΣ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ο πλάσμα υπάρχουν πάντοτε τα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αντισώματα ενάντια στα αντιγόνα που ΔΕΝ υπάρχουν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τα ερυθροκύτταρα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Ο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 και 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Β: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-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</a:t>
            </a: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Ομάδα ΑΒ: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νέ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7" descr=""/>
          <p:cNvPicPr/>
          <p:nvPr/>
        </p:nvPicPr>
        <p:blipFill>
          <a:blip r:embed="rId1"/>
          <a:srcRect l="0" t="9412" r="0" b="5330"/>
          <a:stretch/>
        </p:blipFill>
        <p:spPr>
          <a:xfrm>
            <a:off x="762120" y="1643040"/>
            <a:ext cx="7619760" cy="457200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"/>
          <p:cNvSpPr/>
          <p:nvPr/>
        </p:nvSpPr>
        <p:spPr>
          <a:xfrm>
            <a:off x="755640" y="490680"/>
            <a:ext cx="77724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ΗΜΑ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ΓΟΝΟ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γενετικά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νεξάρτητο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πό το ΑΒ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ποτελεί προϋπόθεση για την ύπαρξη των αντιγόνων   Α και 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πί απουσίας του Η, η δημιουργία των άλλων δύο είναι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αδύνατ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spcAft>
                <a:spcPts val="20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ΗΜΑΣΙΑ ΣΤΗΝ ΑΙΜΟΔΟΣ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Όταν συναντηθούν κύτταρα ομάδας Α με αντισώματα αντι-Α, έχουμε αντίδραση και καταστροφή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spcAft>
                <a:spcPts val="1500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Ο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δί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σε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441360">
              <a:spcBef>
                <a:spcPts val="601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Η ομάδα ΑΒ μπορεί να </a:t>
            </a:r>
            <a:r>
              <a:rPr b="1" lang="el-GR" sz="2400" spc="-1" strike="noStrike" u="sng">
                <a:solidFill>
                  <a:srgbClr val="a22700"/>
                </a:solidFill>
                <a:uFillTx/>
                <a:latin typeface="Arial"/>
              </a:rPr>
              <a:t>παίρνει</a:t>
            </a:r>
            <a:r>
              <a:rPr b="1" lang="el-GR" sz="2400" spc="-1" strike="noStrike">
                <a:solidFill>
                  <a:srgbClr val="a22700"/>
                </a:solidFill>
                <a:latin typeface="Arial"/>
              </a:rPr>
              <a:t> αίμα από όλες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ις ομάδες, γιατί δεν έχει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50560" y="260280"/>
            <a:ext cx="878508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ΓΟΝΙΔΙΑ ΤΟΥ ΣΥΣΤΗ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αλληλόμορφα γονίδια: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δράζονται στο μακρό σκέλος του χρωμοσώματος 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ληρονομούνται κατά τον αυτόσωμο συνεπικρατούντα χαρακτήρ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ΕΚΦΡΑΣΗ ΤΩΝ ΓΟΝΙΔΙΩ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γονίδια Α και Β </a:t>
            </a:r>
            <a:r>
              <a:rPr b="1" lang="el-GR" sz="2400" spc="-1" strike="noStrike" u="sng">
                <a:solidFill>
                  <a:srgbClr val="002060"/>
                </a:solidFill>
                <a:uFillTx/>
                <a:latin typeface="Arial"/>
              </a:rPr>
              <a:t>δεν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αράγουν απευθείας τα αντιγόνα Α και Β, αλλ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υν δύ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ένζυμα, τις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τρανσφεράσες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που ευθύνονται για τη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ετατροπή του αντιγόνου Η σε Α και Β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ντίστοιχα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γονίδιο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Ο δεν παράγει ένζυμο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αι έτσι υπάρχ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μόνο Η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ο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ΑΙΝΟΤΥΠΟΣ ΚΑΙ ΓΟΝΟΤΥΠΟΣ ΤΟΥ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10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01" name="Picture 2" descr=""/>
          <p:cNvPicPr/>
          <p:nvPr/>
        </p:nvPicPr>
        <p:blipFill>
          <a:blip r:embed="rId1"/>
          <a:stretch/>
        </p:blipFill>
        <p:spPr>
          <a:xfrm>
            <a:off x="539640" y="2109960"/>
            <a:ext cx="783432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ΥΠΟΟΜΑΔΕ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3640" y="1773360"/>
            <a:ext cx="83516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 αποτελείται από τις υποομάδε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, ...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400" spc="-1" strike="noStrike" baseline="-25000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με κυριότερες τις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και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 A</a:t>
            </a:r>
            <a:r>
              <a:rPr b="1" lang="en-US" sz="24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Β έχει επίσης υποομάδες, αλλά λιγότερε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Η ομάδα ΑΒ παρουσιάζει υποομάδες ανάλογα με τις υποομάδες των Α και Β που την αποτελού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ΧΝΟΤΗΤΑ ΟΜΑΔΩΝ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2195280" y="1773360"/>
            <a:ext cx="662436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32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8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14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1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  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1" lang="en-US" sz="28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Ο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41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5 - Δεξιό άγκιστρο"/>
          <p:cNvSpPr/>
          <p:nvPr/>
        </p:nvSpPr>
        <p:spPr>
          <a:xfrm>
            <a:off x="3564000" y="4005360"/>
            <a:ext cx="71280" cy="792000"/>
          </a:xfrm>
          <a:custGeom>
            <a:avLst/>
            <a:gdLst>
              <a:gd name="textAreaLeft" fmla="*/ 0 w 71280"/>
              <a:gd name="textAreaRight" fmla="*/ 25560 w 71280"/>
              <a:gd name="textAreaTop" fmla="*/ 1800 h 792000"/>
              <a:gd name="textAreaBottom" fmla="*/ 790200 h 79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1"/>
                  <a:pt x="10800" y="162"/>
                </a:cubicBezTo>
                <a:lnTo>
                  <a:pt x="10800" y="10638"/>
                </a:lnTo>
                <a:cubicBezTo>
                  <a:pt x="10800" y="10719"/>
                  <a:pt x="16200" y="10800"/>
                  <a:pt x="21600" y="10800"/>
                </a:cubicBezTo>
                <a:cubicBezTo>
                  <a:pt x="16200" y="10800"/>
                  <a:pt x="10800" y="10881"/>
                  <a:pt x="10800" y="10962"/>
                </a:cubicBezTo>
                <a:lnTo>
                  <a:pt x="10800" y="21438"/>
                </a:lnTo>
                <a:cubicBezTo>
                  <a:pt x="10800" y="21519"/>
                  <a:pt x="5400" y="21600"/>
                  <a:pt x="0" y="21600"/>
                </a:cubicBezTo>
              </a:path>
            </a:pathLst>
          </a:custGeom>
          <a:noFill/>
          <a:ln w="25560">
            <a:solidFill>
              <a:srgbClr val="2d2d8a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ερυθροκυτταρικών αντιγόνων Α και Β σε πλάκ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ούνται γνωστοί αντιοροί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αντι-Α, αντι-Β αντι-Α,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Προσδιορισμός αντισωμάτων αντι-Α και αντι-Β στον ορό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Χρησιμοποιείται εναιώρημα γνωστ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        </a:t>
            </a:r>
            <a:r>
              <a:rPr b="1" lang="el-GR" sz="2400" spc="-1" strike="noStrike">
                <a:solidFill>
                  <a:srgbClr val="333399"/>
                </a:solidFill>
                <a:latin typeface="Arial"/>
              </a:rPr>
              <a:t>ερυθροκυττάρων ομάδων Α, Β, 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ΑΓΝΩΡΙΣΗ ΞΕΝΩΝ 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Η αναγνώριση βασίζεται σε ειδικά μόρια που βρίσκονται στην επιφάνεια των κυττάρων, </a:t>
            </a: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τα αντιγόν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Αντιγόνο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κάθε ουσία που όταν εισέλθει στον οργανισμό προκαλεί ανοσολογική απάντηση. Είναι συνήθως σύνθετες πρωτεϊνες, ο αριθμός των οποίων είναι εξαιρετικά μεγάλ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755640" y="981000"/>
            <a:ext cx="716112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ΡΟΣΔΙΟΡΙΣΜΟΣ ΟΜΑΔΩΝ ΑΙΜΑΤΟΣ ΑΒ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28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258920" y="1844640"/>
            <a:ext cx="6343560" cy="405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ΠΑΡΑΓΟΝΤΑΣ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ο αίμα μπορεί να είναι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ό ή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υτό εξαρτάται από την ύπαρξη του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αντιγόνου 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Υπάρχουν 3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C, D, E (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υχνότερο το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85% των Ευρωπαίω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θετικο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ΣΩΜΑΤΑ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Φυσικά αντισώματα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δεν υπάρχου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ρα, σε μια πρώτη μετάγγιση δεν μπορεί να υπάρξει συγκόλληση και αιμόλυ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Μπορεί όμως να υπάρξει ευαισθητοποίηση και παραγωγή άνοσων αντι-</a:t>
            </a: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Rhesus</a:t>
            </a:r>
            <a:r>
              <a:rPr b="1" lang="el-GR" sz="2400" spc="-1" strike="noStrike" u="sng">
                <a:solidFill>
                  <a:srgbClr val="ff0000"/>
                </a:solidFill>
                <a:uFillTx/>
                <a:latin typeface="Arial"/>
              </a:rPr>
              <a:t> αντισωμάτων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lnSpc>
                <a:spcPct val="9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Οπότε μπορεί να υπάρξει αντίδραση σε δεύτερη μετάγγισ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ΥΑΙΣΘΗΤΟΠΟΙΗΣΗ ΣΤΟΝ </a:t>
            </a:r>
            <a:r>
              <a:rPr b="1" lang="en-US" sz="4000" spc="-1" strike="noStrike">
                <a:solidFill>
                  <a:srgbClr val="009999"/>
                </a:solidFill>
                <a:latin typeface="Arial"/>
              </a:rPr>
              <a:t>RHESU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496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υαισθητοποίηση στον παράγοντ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μπορεί να υπάρξει και κατά τον τοκετό (όχι στην κύηση), όταν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αρνητική μητέρα γεννά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esus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θετικό παιδί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επόμενη κύηση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hesus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θετικού παιδιού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μπορεί να υπάρξε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αιμόλυση στο έμβρυο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, ίκτερος και απειλή της ζωής το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ια την αποφυγή της ευαισθητοποίησης, χορηγούνται 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στις αρνητικές μητέρες αντι-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σώματα μετά τον τοκετ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78920" y="274320"/>
            <a:ext cx="87138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57200" y="1125000"/>
            <a:ext cx="82296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2060"/>
                </a:solidFill>
                <a:latin typeface="Arial"/>
              </a:rPr>
              <a:t>Σήμερα είναι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αγνωρισμένα 308 αντιγόν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270 αντιγόνα έχουν ταξινομηθεί σε 30 διακεκριμένες ομάδες αίματος από την ομάδα ISBT (International Society of Blood Transfusion) η οποία είναι υπεύθυνη για τον καθορισμό των επιφανειακών αντιγόνων των ερυθρώ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38 αντιγόνα δεν έχουν τυποποιηθεί σε κάποιο σύστη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ΛΑ ΑΝΤΙΓΟΝΙΚΑ ΣΥΣΤΗ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324000" y="1483920"/>
            <a:ext cx="8712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ell (25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ντιγόνα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Duffy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idd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ewis (2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λληλόμορφα γονίδι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a, b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ΜΝ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uther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-35100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Χ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g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κ.α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ΑΝΤΙΓΟΝΙΚΑ ΣΥΣΤΗΜΑΤΑ ΣΤΟ ΑΙ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F:\TEI-Λ\ΑΙΜΟΔΟΣΙΑ\imagemap.gif"/>
          <p:cNvPicPr/>
          <p:nvPr/>
        </p:nvPicPr>
        <p:blipFill>
          <a:blip r:embed="rId1"/>
          <a:stretch/>
        </p:blipFill>
        <p:spPr>
          <a:xfrm>
            <a:off x="1619280" y="1874880"/>
            <a:ext cx="5533920" cy="372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ΜΕΤΑΓΓΙΣΕΙΣ ΚΑΙ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ΝΤΙΔΡΑΣΕΙΣ ΑΣΥΜΒΑΤΟΤΗΤΑ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Τα αντισώματα που υπάρχουν στον ορό του δότη δεν προκαλούν πρόβλημα, γιατί θα αραιωθούν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ασθενή με άγνωστη ομάδα αίματο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ίμα 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Rh-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χορηγείται μόνο αν απειλείται η ζωή το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ε όλες τις άλλες περιπτώσεις, επιδιώκεται η χορήγηση ίδιας ομάδας αί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ΤΕΣ ΚΑΙ ΔΕΚΤΕΣ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1531800" y="1844640"/>
            <a:ext cx="5776920" cy="383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ΝΟΣΟΠΟΙΗΤΙΚΟΥ ΣΥΣΤΗ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640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6600" indent="-514440">
              <a:spcBef>
                <a:spcPts val="799"/>
              </a:spcBef>
              <a:buClr>
                <a:srgbClr val="ff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Φαγ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Πολυμορφ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Μονοπύρην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ff0000"/>
                </a:solidFill>
                <a:latin typeface="Arial"/>
              </a:rPr>
              <a:t>2.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Β λεμφοκύτταρα  → Χυμ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66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- Τ λεμφοκύτταρα 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→ Κυτταρική ανοσ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95280" y="260280"/>
            <a:ext cx="856944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ΛΕΓΧΟΣ ΑΣΥΜΒΑΤΟΤΗΤΑΣ: ΔΙΑΣΤΑΥΡΩΣ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Κύτταρα του δότη αναμειγνύονται με πλάσμα του δέκτη  και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κύτταρα του δέκτη με πλάσμα του δότ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εν πρέπει να υπάρχει συγκόλληση σε καμία από τις 2 περιπτ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Picture 2" descr=""/>
          <p:cNvPicPr/>
          <p:nvPr/>
        </p:nvPicPr>
        <p:blipFill>
          <a:blip r:embed="rId1"/>
          <a:stretch/>
        </p:blipFill>
        <p:spPr>
          <a:xfrm>
            <a:off x="1341360" y="2205000"/>
            <a:ext cx="6326280" cy="252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  <p:sp>
        <p:nvSpPr>
          <p:cNvPr id="136" name="Ορθογώνιο 1"/>
          <p:cNvSpPr/>
          <p:nvPr/>
        </p:nvSpPr>
        <p:spPr>
          <a:xfrm>
            <a:off x="2340000" y="2421000"/>
            <a:ext cx="1295280" cy="38876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ΛΕΓΧΟΣ ΟΜΑΔΩΝ ΑΙΜΑΤΟ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F:\TEI-Λ\ΑΙΜΟΔΟΣΙΑ\bloodchart.gif"/>
          <p:cNvPicPr/>
          <p:nvPr/>
        </p:nvPicPr>
        <p:blipFill>
          <a:blip r:embed="rId1"/>
          <a:stretch/>
        </p:blipFill>
        <p:spPr>
          <a:xfrm>
            <a:off x="2484360" y="1658880"/>
            <a:ext cx="3959280" cy="483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4960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ΧΥΜΙΚΗ ΑΝΟΣΙΑ - ΑΝΤΙΣΩΜΑΤ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79280" y="1483920"/>
            <a:ext cx="878544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χυμική ανοσία βασίζεται στα αντισώμα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είναι πρωτεϊνες (ανοσοσφαιρίνες, γ-σφαιρίνες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α αντισώματα παράγονται από τ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πλασματοκύτταρα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,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που είναι η τελική μορφή της εξέλιξης των Β λεμφοκυττάρω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180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1800" indent="-269640">
              <a:spcBef>
                <a:spcPts val="75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ύριο γνώρισμα των αντισωμάτων: η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ειδικότητα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ίναι πρωτεϊνες γνωστές ως γ-σφαιρίνες ή ανοσοσφαιρίνες 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(I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Αποτελούνται από 2 βαριές και 2 ελαφρές αλύσους σε σχήμα 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Μονομερές αντίσωμα: Με ένα Υ ( 2 θέσεις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μερές αντίσωμ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IgA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δύο 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ενταμερές αντίσωμα: (Ι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gM)</a:t>
            </a: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: Με 5 Υ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7667640" y="4581360"/>
            <a:ext cx="333360" cy="5432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"/>
          <p:cNvPicPr/>
          <p:nvPr/>
        </p:nvPicPr>
        <p:blipFill>
          <a:blip r:embed="rId2"/>
          <a:stretch/>
        </p:blipFill>
        <p:spPr>
          <a:xfrm>
            <a:off x="7885080" y="5084640"/>
            <a:ext cx="781200" cy="6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79280" y="259920"/>
            <a:ext cx="878544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820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περιοχή που γίνεται η δέσμευση είναι η μεταβλητή περιοχή του αντισώματος, που μεταβάλλεται αναλόγως της ειδικότητας</a:t>
            </a:r>
            <a:r>
              <a:rPr b="1" lang="en-US" sz="3000" spc="-1" strike="noStrike">
                <a:solidFill>
                  <a:srgbClr val="002060"/>
                </a:solidFill>
                <a:latin typeface="Arial"/>
              </a:rPr>
              <a:t>.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υπόλοιπο τμήμα δεν μεταβάλλεται όταν μεταβάλλεται η ειδικότητ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Η διάσπαση των αντισωμάτων με ένζυμα δίνει 2 τμήματα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85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Το τμήμα που συνδέεται με το αντιγόνο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ab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)</a:t>
            </a:r>
            <a:r>
              <a:rPr b="1" lang="el-GR" sz="3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3000" spc="-1" strike="noStrike">
                <a:solidFill>
                  <a:srgbClr val="002060"/>
                </a:solidFill>
                <a:latin typeface="Arial"/>
              </a:rPr>
              <a:t>και το κρυσταλλικό τμήμα 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(</a:t>
            </a:r>
            <a:r>
              <a:rPr b="1" lang="en-US" sz="3000" spc="-1" strike="noStrike">
                <a:solidFill>
                  <a:srgbClr val="ff0000"/>
                </a:solidFill>
                <a:latin typeface="Arial"/>
              </a:rPr>
              <a:t>Fc)</a:t>
            </a:r>
            <a:r>
              <a:rPr b="1" lang="el-GR" sz="30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2"/>
          <p:cNvSpPr/>
          <p:nvPr/>
        </p:nvSpPr>
        <p:spPr>
          <a:xfrm>
            <a:off x="179280" y="260280"/>
            <a:ext cx="8785440" cy="86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ΔΟΜΗ ΤΩΝ ΑΝΤΙΣΩΜΑΤ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3" descr=""/>
          <p:cNvPicPr/>
          <p:nvPr/>
        </p:nvPicPr>
        <p:blipFill>
          <a:blip r:embed="rId1"/>
          <a:stretch/>
        </p:blipFill>
        <p:spPr>
          <a:xfrm>
            <a:off x="2124000" y="1090440"/>
            <a:ext cx="5327640" cy="508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ΙΔΗ ΑΝΤΙΣΩΜΑΤ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50752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G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οι πιο άφθονες ανοσοσφαιρίνες στο αίμα. Παράγονται σε μεγάλες ποσότητες κατά τη δευτερογενή απάντηση. Διευκολύνουν τη φαγοκυττάρωση και τη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M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πενταμερή μόρια που εκκρίνονται πρώιμα. Διευκολύνουν τη συγκόλληση, τη φαγοκυττάρωση και την λύση των κυττάρω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D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ντισώματα επιφανείας των λεμφοκυττάρων, με άγνωστο ρόλο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A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μερή μόρια, που βρίσκονται στις εκκρίσεις σάλιου, δακρύων και γάλατο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IgE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:</a:t>
            </a:r>
            <a:r>
              <a:rPr b="0" lang="el-GR" sz="2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ίζουν ρόλο στις παρασιτικές λοιμώξεις. Διεγείρουν την παραγωγή βραδυκινίνης, ισταμίνης και άλλων φλεγμονωδών μεσολαβητώ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TEI LARISA</cp:lastModifiedBy>
  <dcterms:modified xsi:type="dcterms:W3CDTF">2013-04-10T11:05:06Z</dcterms:modified>
  <cp:revision>70</cp:revision>
  <dc:subject/>
  <dc:title>ΗΛΕΚΤΡΙΚΑ ΣΗΜΑΤΑ ΚΑΙ ΔΙΕΓΕΡΣΙΜΑ ΚΥΤΤΑΡΑ</dc:title>
</cp:coreProperties>
</file>